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18F-3BEC-4FA8-94FC-F3E05255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0ED-1CD5-4B68-A506-11AA7F74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616-D294-4A24-8700-B35FC2CA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EB5-4FC6-48BA-9BFB-42069A6A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6056-3080-48F2-BBDC-2188BDE0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7AB2-F43A-4452-BFB6-3270A01E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432A-C170-4150-B9EA-5E5E13DB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BE53-1D59-452F-A57E-32AC8FF0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90B2-93F9-4F84-B464-F994A80B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9147-9882-4A9F-8F13-B2827A08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7053-3D30-471D-B91D-AA57262E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D6D-6D05-4943-AD01-BC39B663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1320-40CC-4708-88E0-8EF6B7D8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46E8-FF63-4331-A61C-AC3D78A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F375-7B7E-48FF-9598-23128CFF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E9C7-D30C-4FDD-AA74-82D89D67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3C5B-95B4-42BB-A962-7FAAD0BD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679-30FD-49F8-80D5-AC0FF26A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E3B-4E71-4A3A-A32F-C1C658D2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21A-4BAF-49CB-8C27-B470C379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753-9E3A-4218-AD4A-E3D9AC5A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908-6439-48AD-BCD1-618022ED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758-A52E-420E-9570-B39D73CB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A4C-C81D-48D7-A091-19E86A70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38AF-1C5B-4820-9461-7E453D9B120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54418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1BED-3579-4DD0-9D06-BC4FF2753BF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arm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six steps of the scientific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yesterday’s warm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which step do we use control and experimental groups, dependent and independent variab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cientific Method and Experimenta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10, 9/1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Comer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4418"/>
                </a:solidFill>
                <a:latin typeface="Arial"/>
              </a:rPr>
              <a:t>Describe the 6 steps of the scientific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4418"/>
                </a:solidFill>
                <a:latin typeface="Arial"/>
              </a:rPr>
              <a:t>Apply the scientific method to a previous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important components of experiment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6 Steps…more detai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/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“If…then…because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vs. experi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vs. 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/Results: graphs, tables,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periment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 stay the same, remain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 are 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periment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d by experim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being regul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t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d by independ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being measu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mpson’s Control &amp; Vari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out work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as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in to fro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2857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1:30:04Z</dcterms:created>
  <dc:creator>Jimmer Comerford</dc:creator>
  <dc:description/>
  <dc:language>en-US</dc:language>
  <cp:lastModifiedBy>Jimmer Comerford</cp:lastModifiedBy>
  <dcterms:modified xsi:type="dcterms:W3CDTF">2009-09-01T05:36:36Z</dcterms:modified>
  <cp:revision>8</cp:revision>
  <dc:subject/>
  <dc:title>Scientific Method</dc:title>
</cp:coreProperties>
</file>